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4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099-C35F-46FD-88C8-23ACF65E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C12-64BF-4CE4-A24D-0574513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A59-9C00-46C2-98F7-7FDB2B3E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C24-D142-4FB4-8BD3-B4F23342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4A2-9ABA-4E32-8E86-D248A9D7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E9EA-B27D-4B5B-812F-143C13DF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DC7-2F05-461F-83B9-E6312C9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83E-EBA0-4AF1-B4CE-DA4957DE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5572-953F-4A32-9F1E-6D1835E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B07-F49E-47A9-80C8-779B9385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5BB-ED1E-4FC7-BC4D-95C2040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438-6325-4361-B02F-3026D8F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D73-8F07-4BFE-A2AD-24418F9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2EB-97CB-4F46-B347-1DE2A39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BBF-DC3F-4518-AB35-E6ADE99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E9A2-6F52-4B09-B775-06D52BD8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290D-6965-49CF-A616-B14C8490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03B-1D0F-4FA8-A65F-72E59E3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7C2-E540-495E-AB4C-AA3D981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4EA-3BF4-4109-8A3D-535F4DE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4FC-B484-4B8A-A7FB-0F432D4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E9C-3955-4BBF-BD98-9D2CC24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4E0-C600-4CE4-BEBF-0CD1BB8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881-9420-4F6A-8AD3-04883CB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7ECB6A-1A23-4D77-AF16-FEA312F73CB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5B6D7C-F83B-4ABF-A6A4-CAC23385C87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Darwin vs. Lamarc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447920"/>
            <a:ext cx="8305920" cy="23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eestyle Script"/>
              </a:rPr>
              <a:t>Theories of Evolution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eestyle Script"/>
              <a:ea typeface="Freestyle Scrip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3.  Some variations are FAVORABLE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(increase chances for survival/ reprodu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le vs. Female Cardi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le color attracts female= reproductiv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3081240" cy="216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54080" y="871560"/>
            <a:ext cx="7570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08040" indent="-608040">
              <a:lnSpc>
                <a:spcPct val="90000"/>
              </a:lnSpc>
              <a:buClr>
                <a:srgbClr val="006666"/>
              </a:buClr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Better adapted individuals survive and reprodu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hese are the individuals that will pass on their genes to the next gen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his can change the GENE POO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des all the genes of every reproductive member of a pop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What The theory of evolution IS NOT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occur in INDIVIDUALS…only population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happen quickly…the Earth has a Looooooong histor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explain how life came to be on Earth, just how it evolved after it was 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have any driving force except the competition for limited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rwin’s Finches…p 55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llustrate SPECIATION:  when a species breaks into two (or mo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he organisms in the two species can no longer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BRE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hat could cause this to happen?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ographic barri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ccupy a new niche/habi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roductive Isolation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What would Darwin say to explain why giraffe’s have such long neck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g. 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comic"/>
              </a:rPr>
              <a:t>Evolution-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“Change Over Time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ll of the changes that have occurred in living things since the beginning of life on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55720" y="2057400"/>
            <a:ext cx="73738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istory of the Eart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41280" y="1268280"/>
            <a:ext cx="8435880" cy="5075280"/>
            <a:chOff x="341280" y="1268280"/>
            <a:chExt cx="8435880" cy="50752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8435880" cy="50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41280" y="1268280"/>
              <a:ext cx="843588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700 million years ago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06400" y="1401840"/>
            <a:ext cx="5673960" cy="2181240"/>
            <a:chOff x="1706400" y="1401840"/>
            <a:chExt cx="5673960" cy="2181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706400" y="1401840"/>
              <a:ext cx="56739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706400" y="1401840"/>
              <a:ext cx="5673960" cy="21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2736720"/>
            <a:ext cx="5559120" cy="42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44560" y="797040"/>
            <a:ext cx="7769160" cy="996840"/>
            <a:chOff x="844560" y="797040"/>
            <a:chExt cx="7769160" cy="9968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844560" y="797040"/>
              <a:ext cx="776916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44560" y="797040"/>
              <a:ext cx="776916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occurs over MANY generatio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occurs within POPULATIONS (NOT individua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involves genetic changes in a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(Members of 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speci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 interbreed to produce healthy, fertile offspr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vidence for Evolu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17920" y="2425680"/>
            <a:ext cx="4502160" cy="3127320"/>
            <a:chOff x="2617920" y="2425680"/>
            <a:chExt cx="4502160" cy="31273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617920" y="2425680"/>
              <a:ext cx="450216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617920" y="2425680"/>
              <a:ext cx="4502160" cy="31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an-Baptiste LaMarck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ench, Early 1800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Theory of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Inheritance of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Acquired Characteristic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wo main poin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93760"/>
            <a:ext cx="7924680" cy="1143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SSIL EVIDENCE-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Provides TRANSITIONAL LINK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23880"/>
            <a:ext cx="40402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stellar"/>
              </a:rPr>
              <a:t>Archaeopteryx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inks reptiles and  bir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2590920"/>
            <a:ext cx="3633840" cy="3949560"/>
            <a:chOff x="609480" y="2590920"/>
            <a:chExt cx="3633840" cy="39495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609480" y="2590920"/>
              <a:ext cx="363384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09480" y="2590920"/>
              <a:ext cx="363384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638600" y="1487520"/>
            <a:ext cx="4052880" cy="955800"/>
            <a:chOff x="4638600" y="1487520"/>
            <a:chExt cx="4052880" cy="9558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638600" y="1487520"/>
              <a:ext cx="405288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638600" y="1487520"/>
              <a:ext cx="40528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45080" y="2717640"/>
            <a:ext cx="4040280" cy="3630600"/>
            <a:chOff x="4645080" y="2717640"/>
            <a:chExt cx="4040280" cy="363060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645080" y="2717640"/>
              <a:ext cx="4040280" cy="36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45080" y="2717640"/>
              <a:ext cx="4040280" cy="36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582480"/>
            <a:ext cx="792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natom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347840"/>
            <a:ext cx="3963960" cy="1819080"/>
          </a:xfrm>
          <a:prstGeom prst="rect">
            <a:avLst/>
          </a:prstGeom>
          <a:noFill/>
          <a:ln cap="sq"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100" spc="-1" strike="noStrike" u="sng">
                <a:solidFill>
                  <a:srgbClr val="0070c0"/>
                </a:solidFill>
                <a:uFillTx/>
                <a:latin typeface="Arial"/>
              </a:rPr>
              <a:t>HOMOLOGOUS STRUCTUR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tructures that are similar because they were inherited from a </a:t>
            </a: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MMON ANCES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36680" y="3240000"/>
            <a:ext cx="2847960" cy="2181240"/>
            <a:chOff x="1336680" y="3240000"/>
            <a:chExt cx="2847960" cy="21812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336680" y="3240000"/>
              <a:ext cx="28479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336680" y="3240000"/>
              <a:ext cx="2847960" cy="21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648320" y="1243080"/>
            <a:ext cx="4038480" cy="1995480"/>
          </a:xfrm>
          <a:prstGeom prst="rect">
            <a:avLst/>
          </a:prstGeom>
          <a:noFill/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 u="sng">
                <a:solidFill>
                  <a:srgbClr val="7030a0"/>
                </a:solidFill>
                <a:uFillTx/>
                <a:latin typeface="Arial"/>
              </a:rPr>
              <a:t>ANALOGOUS STRUCTUR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imilar in function, but 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NOT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herited from a common anc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56320" y="3424320"/>
            <a:ext cx="3776400" cy="2128680"/>
            <a:chOff x="4756320" y="3424320"/>
            <a:chExt cx="3776400" cy="212868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756320" y="3424320"/>
              <a:ext cx="37764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56320" y="3424320"/>
              <a:ext cx="377640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78720" y="5638680"/>
            <a:ext cx="39625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Calibri"/>
                <a:ea typeface="Arial"/>
              </a:rPr>
              <a:t>NOTE:  similar structure, but NOT always function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5638680"/>
            <a:ext cx="4038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Calibri"/>
                <a:ea typeface="Arial"/>
              </a:rPr>
              <a:t>NOTE:  similar FUNCTION, but not STRUCTU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712800"/>
            <a:ext cx="7924680" cy="968400"/>
          </a:xfrm>
          <a:prstGeom prst="rect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re Anatomical Evidence:</a:t>
            </a:r>
            <a:br>
              <a:rPr sz="3200"/>
            </a:br>
            <a:r>
              <a:rPr b="1" lang="es-ES" sz="3200" spc="-1" strike="noStrike" u="sng">
                <a:solidFill>
                  <a:srgbClr val="ff0000"/>
                </a:solidFill>
                <a:uFillTx/>
                <a:latin typeface="Castellar"/>
              </a:rPr>
              <a:t>Vestigial Struct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28800" y="1600200"/>
            <a:ext cx="6826320" cy="4799160"/>
            <a:chOff x="1828800" y="1600200"/>
            <a:chExt cx="6826320" cy="47991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828800" y="1600200"/>
              <a:ext cx="682632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828800" y="1600200"/>
              <a:ext cx="6826320" cy="47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4572000"/>
            <a:ext cx="2514600" cy="173988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Vestigial Structures are undeveloped structures that were functional in some ancestor, but are no longer needed in that organis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MBRYOLOGY-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suggests common ancesto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09680" y="1600200"/>
            <a:ext cx="4646880" cy="4799160"/>
            <a:chOff x="2209680" y="1600200"/>
            <a:chExt cx="4646880" cy="47991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09680" y="1600200"/>
              <a:ext cx="464688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09680" y="1600200"/>
              <a:ext cx="4646880" cy="47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OGEOGRAPH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2193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we study the distribution of plants and animals on the planet, we noti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Lucida Sans Unicode"/>
              </a:rPr>
              <a:t>Animals evolved differently in each of the biogeographical reg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Lucida Sans Unicode"/>
              </a:rPr>
              <a:t>We see evidence that as the continents drifted, organisms were separated and evolv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3880" y="3600360"/>
            <a:ext cx="61819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OCHEM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ost all living things use the same biochemical mole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DNA, Protein, A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st diversity came about by only slight differences in the same g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The more closely “related” the organisms are, the more similar their D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her Evidenc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Mimicry and Camoflau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Antibiotic Re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495520" cy="1650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103480" cy="2163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1981080"/>
            <a:ext cx="1800" cy="533520"/>
          </a:xfrm>
          <a:prstGeom prst="line">
            <a:avLst/>
          </a:prstGeom>
          <a:ln cap="sq"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85800" cy="609480"/>
          </a:xfrm>
          <a:prstGeom prst="line">
            <a:avLst/>
          </a:prstGeom>
          <a:ln cap="sq"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6858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1676520"/>
          </a:xfrm>
          <a:prstGeom prst="rect">
            <a:avLst/>
          </a:prstGeom>
          <a:noFill/>
          <a:ln cap="sq"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1. 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inciple of Use &amp; Disuse:</a:t>
            </a: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88920" indent="-53172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st used body structures develop, unused structures waste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895480"/>
            <a:ext cx="8229600" cy="3124440"/>
          </a:xfrm>
          <a:prstGeom prst="rect">
            <a:avLst/>
          </a:prstGeom>
          <a:noFill/>
          <a:ln cap="sq"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9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2. Inheritance of Acquired Characteristics</a:t>
            </a: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nce the structure is modified, the new trait can be inherited (passed to offspr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plain the picture below as if you were LaMarck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229000" cy="46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Why we don’t believe him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99cc99"/>
                </a:solidFill>
                <a:latin typeface="Arial"/>
              </a:rPr>
              <a:t>Genetics</a:t>
            </a:r>
            <a:r>
              <a:rPr b="0" lang="en-US" sz="6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egor Mendel discovered that traits are passed down through GENES (which aren’t affected by the outside world in that 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2860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s-ES" sz="5400" spc="-1" strike="noStrike">
                <a:solidFill>
                  <a:srgbClr val="99cc99"/>
                </a:solidFill>
                <a:latin typeface="Arial"/>
              </a:rPr>
              <a:t>Experiment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how that changes that occur in an animal’s life are not passed on to its offsp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les Darwin</a:t>
            </a:r>
            <a:br>
              <a:rPr sz="36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The Father of Evolution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612520"/>
            <a:ext cx="7693200" cy="34736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1831- sailed on the HMS Beagle to the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Galapagos Islands</a:t>
            </a: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Studied many species of finc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Published book in 1845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 algn="ctr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Arial"/>
              </a:rPr>
              <a:t>On the Origin of Species by Natural Selection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omic"/>
              </a:rPr>
              <a:t>Darwin’s Theory of Evolution</a:t>
            </a:r>
            <a:br>
              <a:rPr sz="3600"/>
            </a:br>
            <a:r>
              <a:rPr b="1" lang="es-ES" sz="1400" spc="-1" strike="noStrike">
                <a:solidFill>
                  <a:srgbClr val="006666"/>
                </a:solidFill>
                <a:latin typeface="Arial"/>
              </a:rPr>
              <a:t>(don’t copy all this it’s on your handout) </a:t>
            </a:r>
            <a:r>
              <a:rPr b="1" lang="es-E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“</a:t>
            </a: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Survival of the Fittes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“</a:t>
            </a: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Natural Selectio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103400"/>
            <a:ext cx="7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4876920"/>
            <a:ext cx="81532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ur main point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1.  More organisms are produced than can survive…leads to 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Arial"/>
              </a:rPr>
              <a:t>COMPETITION OVER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’s of resource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abit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at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2.  Individuals within a population vary, and some of these traits are heritabl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248160" cy="415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26:34Z</dcterms:created>
  <dc:creator>Solon Board of Education</dc:creator>
  <dc:description/>
  <dc:language>en-US</dc:language>
  <cp:lastModifiedBy>Solon Board of Education</cp:lastModifiedBy>
  <dcterms:modified xsi:type="dcterms:W3CDTF">2009-02-04T18:02:37Z</dcterms:modified>
  <cp:revision>12</cp:revision>
  <dc:subject/>
  <dc:title>Theories of Evolution</dc:title>
</cp:coreProperties>
</file>